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AED-A912-479C-97AF-9B5DAC62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205-B9D6-49C0-B30A-51D767A9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B96-FB7A-4E3A-8815-8C6069BF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970C-9903-4002-81A1-5A2707DE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BCE9-F4CE-4DB7-BAC3-72C037EA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900-5DB3-416A-A431-D537F7A4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99B-8448-4578-946F-585FBD64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4915-3F6E-4470-A2AE-8BCA5770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4156-94E6-4937-AD8B-B8D0F34B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FD8-ECBD-4E73-A7CE-6E57ECC6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BE94-427B-493A-973C-C52ECB60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73A-F3BD-4B12-9CA1-9AF4BB11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6E1F-B1D8-48B9-8E68-A1E836BAE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k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an excer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ite a po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 foreign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iculate differ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 to movies, videos, or so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 a gross-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the first line of the 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 a picture or piece of artwork to represent a character, a scene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k the audience to write something sh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the volume of your 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 a personal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 around the 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 sound e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s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 a ph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use for empha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tom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audience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r a cost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k about an important word in the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 at a sec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 something about the 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or contrast with another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hypothetical situation for the 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your body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 the tone of your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 slowly or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 to or read a children’s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 a j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11:53:57Z</dcterms:created>
  <dc:creator>Valued Gateway Client</dc:creator>
  <dc:description/>
  <dc:language>en-US</dc:language>
  <cp:lastModifiedBy>Valued Gateway Client</cp:lastModifiedBy>
  <dcterms:modified xsi:type="dcterms:W3CDTF">2011-10-19T16:11:52Z</dcterms:modified>
  <cp:revision>2</cp:revision>
  <dc:subject/>
  <dc:title>Hooks</dc:title>
</cp:coreProperties>
</file>